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99C-4469-4112-ACD7-ABA28A55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C62-A7B8-4C4C-84FA-01AE51EC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97D-1122-4806-9D71-0DB1CAC3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861-6CF0-441D-B0DC-77701754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995-4F38-4CE0-AFAB-607F0CEA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24A-DE03-41A7-97A1-F7C071B8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0C2-9E4A-437F-9653-BEA8DC03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69E-414C-4D81-B860-49395721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AB1A-6449-429D-8742-9CB9223C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FA7-F36E-43A7-9A4C-6CF08CE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4D4-1C42-4135-A4FF-BB8D0C4D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703-E7F1-4892-B5F4-F3DFC4B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EDB6-1248-4EBC-AC7C-8E9017561583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eather.com/glossary/w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y Weather Forecast for Stillwater, OK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: Stud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urrent Weather Conditions for February 23, 2009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Temperature: 48 degre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-Wind chill: 42 degre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Humidity: 38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Wind: SE 15-21 mp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Precipitation: 0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Humidity: the amount of water vapor in the a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-the more water vapor, the stickier it feels outs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Wind chill: the calculation of temperature that takes into account the wi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-more wind=a colder day in the winte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weather.com/glossary/h.htm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Verdana"/>
                <a:hlinkClick r:id="rId1"/>
              </a:rPr>
              <a:t>http://www.weather.com/glossary/w.htm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5 Day Forecas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927000"/>
          <a:ext cx="7543800" cy="5778720"/>
        </p:xfrm>
        <a:graphic>
          <a:graphicData uri="http://schemas.openxmlformats.org/drawingml/2006/table">
            <a:tbl>
              <a:tblPr/>
              <a:tblGrid>
                <a:gridCol w="1508040"/>
                <a:gridCol w="1509840"/>
                <a:gridCol w="1508040"/>
                <a:gridCol w="1509840"/>
                <a:gridCol w="150804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ues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d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urs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solated Thunder Sto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i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t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495324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3"/>
                </a:solidFill>
                <a:latin typeface="Verdana"/>
              </a:rPr>
              <a:t>Why is this information important to a weather forecast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3"/>
                </a:solidFill>
                <a:latin typeface="Verdana"/>
              </a:rPr>
              <a:t>How does the weather forecast affect the local weather and climate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8:30:45Z</dcterms:created>
  <dc:creator>Meghan Kaifes</dc:creator>
  <dc:description/>
  <dc:language>en-US</dc:language>
  <cp:lastModifiedBy>Oklahoma State University</cp:lastModifiedBy>
  <dcterms:modified xsi:type="dcterms:W3CDTF">2009-03-02T22:52:50Z</dcterms:modified>
  <cp:revision>8</cp:revision>
  <dc:subject/>
  <dc:title>My Weather Forecast for Stillwater, OK</dc:title>
</cp:coreProperties>
</file>